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07200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49CDD-F7EB-43F4-B95F-D30CE22BF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7258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28638-97F9-4FCC-BE9D-77A75F6C2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E1787-B5F1-4B47-AF63-9041765F6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D666E-47C3-49FF-A530-A434C566A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4B432-97C9-48AF-AA43-BD3152360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D8A21-8778-47FB-A2E6-80664434D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0EAB3-967C-4312-AD4B-DFCCA5C4B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DB1AF-B5B3-4E36-A48C-108CAAB28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96360"/>
            <a:ext cx="617220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42F93-6251-47D1-A499-7AC53D4CA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DC0AD-9DF3-4475-ABD7-8F5AC3ED0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53E90-99DC-449E-A234-48D3E3C11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95DF9-EA63-460D-B26D-D68C2D93E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9182160"/>
            <a:ext cx="1600200" cy="52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182160"/>
            <a:ext cx="2171520" cy="52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9182160"/>
            <a:ext cx="1600200" cy="52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A2F6E-C5E6-41DB-B406-A84D815009AF}" type="slidenum">
              <a:rPr b="0" lang="zh-TW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neo.lao@etc.org.tw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7"/>
          <p:cNvSpPr/>
          <p:nvPr/>
        </p:nvSpPr>
        <p:spPr>
          <a:xfrm>
            <a:off x="285840" y="566640"/>
            <a:ext cx="6383160" cy="1220760"/>
          </a:xfrm>
          <a:prstGeom prst="rect">
            <a:avLst/>
          </a:prstGeom>
          <a:solidFill>
            <a:srgbClr val="ffffcc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為達成我國標準與國際同步，配合經濟部標準檢驗局綠能產品檢測技術及驗證計畫，進行相關標準修訂，並透過中文標準草案公開說明會，提供國內外電磁相容檢測標準更新說明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直線接點 10"/>
          <p:cNvSpPr/>
          <p:nvPr/>
        </p:nvSpPr>
        <p:spPr>
          <a:xfrm>
            <a:off x="27000" y="6897600"/>
            <a:ext cx="6858000" cy="0"/>
          </a:xfrm>
          <a:prstGeom prst="line">
            <a:avLst/>
          </a:prstGeom>
          <a:ln w="190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189000" y="7478640"/>
          <a:ext cx="6480000" cy="1730520"/>
        </p:xfrm>
        <a:graphic>
          <a:graphicData uri="http://schemas.openxmlformats.org/drawingml/2006/table">
            <a:tbl>
              <a:tblPr/>
              <a:tblGrid>
                <a:gridCol w="1311120"/>
                <a:gridCol w="849240"/>
                <a:gridCol w="863640"/>
                <a:gridCol w="689040"/>
                <a:gridCol w="750960"/>
                <a:gridCol w="223920"/>
                <a:gridCol w="1792080"/>
              </a:tblGrid>
              <a:tr h="346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0000"/>
                          </a:solidFill>
                          <a:latin typeface="Calibri"/>
                          <a:ea typeface="標楷體"/>
                        </a:rPr>
                        <a:t>公司名稱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0000"/>
                          </a:solidFill>
                          <a:latin typeface="Calibri"/>
                          <a:ea typeface="標楷體"/>
                        </a:rPr>
                        <a:t>統一編號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0000"/>
                          </a:solidFill>
                          <a:latin typeface="Calibri"/>
                          <a:ea typeface="標楷體"/>
                        </a:rPr>
                        <a:t>公司地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0000"/>
                          </a:solidFill>
                          <a:latin typeface="Calibri"/>
                          <a:ea typeface="標楷體"/>
                        </a:rPr>
                        <a:t>公司電話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0000"/>
                          </a:solidFill>
                          <a:latin typeface="Calibri"/>
                          <a:ea typeface="標楷體"/>
                        </a:rPr>
                        <a:t>參加人員姓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0000"/>
                          </a:solidFill>
                          <a:latin typeface="Calibri"/>
                          <a:ea typeface="標楷體"/>
                        </a:rPr>
                        <a:t>職稱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0000"/>
                          </a:solidFill>
                          <a:latin typeface="Calibri"/>
                          <a:ea typeface="標楷體"/>
                        </a:rPr>
                        <a:t>分機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0000"/>
                          </a:solidFill>
                          <a:latin typeface="Calibri"/>
                          <a:ea typeface="標楷體"/>
                        </a:rPr>
                        <a:t>行動電話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標楷體"/>
                        </a:rPr>
                        <a:t>E-mai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5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6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4" name="文字方塊 12"/>
          <p:cNvSpPr/>
          <p:nvPr/>
        </p:nvSpPr>
        <p:spPr>
          <a:xfrm>
            <a:off x="1639800" y="7035840"/>
            <a:ext cx="367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Arial"/>
                <a:ea typeface="標楷體"/>
              </a:rPr>
              <a:t>「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標楷體"/>
              </a:rPr>
              <a:t>CNS </a:t>
            </a:r>
            <a:r>
              <a:rPr b="1" lang="zh-TW" sz="1800" spc="-1" strike="noStrike">
                <a:solidFill>
                  <a:srgbClr val="000000"/>
                </a:solidFill>
                <a:latin typeface="Arial"/>
                <a:ea typeface="標楷體"/>
              </a:rPr>
              <a:t>標準草案說明會」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標楷體"/>
              </a:rPr>
              <a:t>-</a:t>
            </a:r>
            <a:r>
              <a:rPr b="1" lang="zh-TW" sz="1800" spc="-1" strike="noStrike">
                <a:solidFill>
                  <a:srgbClr val="000000"/>
                </a:solidFill>
                <a:latin typeface="Arial"/>
                <a:ea typeface="標楷體"/>
              </a:rPr>
              <a:t> </a:t>
            </a:r>
            <a:r>
              <a:rPr b="1" lang="zh-TW" sz="1800" spc="-1" strike="noStrike">
                <a:solidFill>
                  <a:srgbClr val="000000"/>
                </a:solidFill>
                <a:latin typeface="Arial"/>
                <a:ea typeface="標楷體"/>
              </a:rPr>
              <a:t>報名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180"/>
          <p:cNvSpPr/>
          <p:nvPr/>
        </p:nvSpPr>
        <p:spPr>
          <a:xfrm>
            <a:off x="0" y="0"/>
            <a:ext cx="685800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"/>
                <a:ea typeface="標楷體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標楷體"/>
              </a:rPr>
              <a:t>CNS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  <a:ea typeface="標楷體"/>
              </a:rPr>
              <a:t> 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  <a:ea typeface="標楷體"/>
              </a:rPr>
              <a:t>標準草案說明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204840" y="4521240"/>
          <a:ext cx="6464160" cy="1249200"/>
        </p:xfrm>
        <a:graphic>
          <a:graphicData uri="http://schemas.openxmlformats.org/drawingml/2006/table">
            <a:tbl>
              <a:tblPr/>
              <a:tblGrid>
                <a:gridCol w="1423800"/>
                <a:gridCol w="3159360"/>
                <a:gridCol w="1881000"/>
              </a:tblGrid>
              <a:tr h="3351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ffffff"/>
                          </a:solidFill>
                          <a:latin typeface="Arial"/>
                          <a:ea typeface="標楷體"/>
                        </a:rPr>
                        <a:t>時間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ffffff"/>
                          </a:solidFill>
                          <a:latin typeface="Arial"/>
                          <a:ea typeface="標楷體"/>
                        </a:rPr>
                        <a:t>內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ffffff"/>
                          </a:solidFill>
                          <a:latin typeface="Arial"/>
                          <a:ea typeface="標楷體"/>
                        </a:rPr>
                        <a:t>講師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</a:tr>
              <a:tr h="30492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09:45-10: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報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</a:tr>
              <a:tr h="30492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10:00-10: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CNS 13306-1-1</a:t>
                      </a:r>
                      <a:r>
                        <a:rPr b="0" lang="zh-TW" sz="14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草制說明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(CISPR 16-1-1):201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ETC </a:t>
                      </a:r>
                      <a:r>
                        <a:rPr b="0" lang="zh-TW" sz="14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張宏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</a:tr>
              <a:tr h="30492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10:30-11: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CNS14676-3</a:t>
                      </a:r>
                      <a:r>
                        <a:rPr b="0" lang="zh-TW" sz="14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草制說明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(IEC61000-4-3):20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ETC </a:t>
                      </a:r>
                      <a:r>
                        <a:rPr b="0" lang="zh-TW" sz="14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張宏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7d1"/>
                    </a:solidFill>
                  </a:tcPr>
                </a:tc>
              </a:tr>
            </a:tbl>
          </a:graphicData>
        </a:graphic>
      </p:graphicFrame>
      <p:sp>
        <p:nvSpPr>
          <p:cNvPr id="47" name="文字方塊 9"/>
          <p:cNvSpPr/>
          <p:nvPr/>
        </p:nvSpPr>
        <p:spPr>
          <a:xfrm>
            <a:off x="285840" y="1900080"/>
            <a:ext cx="6337080" cy="241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主辦單位：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經濟部標準檢驗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受託單位：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財團法人台灣商品檢測驗證中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時間：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標楷體"/>
              </a:rPr>
              <a:t>111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年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標楷體"/>
              </a:rPr>
              <a:t>7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月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標楷體"/>
              </a:rPr>
              <a:t>22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日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標楷體"/>
              </a:rPr>
              <a:t>(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星期五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標楷體"/>
              </a:rPr>
              <a:t>)10:00~11:00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地點：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網路會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報名方式：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填妥報名資料回傳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標楷體"/>
              </a:rPr>
              <a:t>E-mail: </a:t>
            </a:r>
            <a:r>
              <a:rPr b="0" lang="en-US" sz="1600" spc="-1" strike="noStrike" u="sng">
                <a:solidFill>
                  <a:srgbClr val="4f81bd"/>
                </a:solidFill>
                <a:uFillTx/>
                <a:latin typeface="Arial"/>
                <a:ea typeface="標楷體"/>
              </a:rPr>
              <a:t>hank1108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ea typeface="標楷體"/>
                <a:hlinkClick r:id="rId1"/>
              </a:rPr>
              <a:t>@etc.org.tw</a:t>
            </a:r>
            <a:r>
              <a:rPr b="0" lang="zh-TW" sz="1600" spc="-1" strike="noStrike">
                <a:solidFill>
                  <a:srgbClr val="4f81bd"/>
                </a:solidFill>
                <a:latin typeface="Arial"/>
                <a:ea typeface="標楷體"/>
              </a:rPr>
              <a:t> 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，完成報名以電子郵件方式提供線上會議連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報名費用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標楷體"/>
              </a:rPr>
              <a:t>:</a:t>
            </a:r>
            <a:r>
              <a:rPr b="1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 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免費參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會議聯絡窗口：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標楷體"/>
              </a:rPr>
              <a:t>02-26023052#28 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張先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會議議程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標楷體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文字方塊 1"/>
          <p:cNvSpPr/>
          <p:nvPr/>
        </p:nvSpPr>
        <p:spPr>
          <a:xfrm>
            <a:off x="117360" y="9283680"/>
            <a:ext cx="66232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100" spc="-1" strike="noStrike">
                <a:solidFill>
                  <a:srgbClr val="000000"/>
                </a:solidFill>
                <a:latin typeface="標楷體"/>
                <a:ea typeface="標楷體"/>
              </a:rPr>
              <a:t>單位報名名額為兩位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100" spc="-1" strike="noStrike">
                <a:solidFill>
                  <a:srgbClr val="000000"/>
                </a:solidFill>
                <a:latin typeface="標楷體"/>
                <a:ea typeface="標楷體"/>
              </a:rPr>
              <a:t>參與活動報名者所提供之個人資料，依相關個資法令規定來使用、保管、並維護其隱私權，不會交予及無正當理由透露給第三者，並於事後以專案銷毀刪除個人資料。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1T05:16:20Z</dcterms:created>
  <dc:creator>vivi</dc:creator>
  <dc:description/>
  <dc:language>en-US</dc:language>
  <cp:lastModifiedBy>green.tsao</cp:lastModifiedBy>
  <cp:lastPrinted>2018-03-19T06:04:45Z</cp:lastPrinted>
  <dcterms:modified xsi:type="dcterms:W3CDTF">2022-06-23T00:41:34Z</dcterms:modified>
  <cp:revision>180</cp:revision>
  <dc:subject/>
  <dc:title>投影片 1</dc:title>
</cp:coreProperties>
</file>